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84E-89F3-441C-B12C-5BA5A114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530-149D-46D2-ABF5-59675CD1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1310-1B62-4B67-BC45-2563ED52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148-3FAB-49F8-A3DA-46F98E0C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7251-3E15-4B3C-B9D2-C5513941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C594-0AAB-43A9-93E7-19D8BDE6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9BFC-2CE0-4D3C-AE3D-B90431A8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792F-DBEB-44CE-A02C-FA8C869B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98BF-5DC2-45A5-84C9-32DF6C10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FF9E-A8D1-4979-830F-85D28B42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AE24-705F-40D8-952D-16CFBD0A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DD1-6031-43B6-8404-53BC683E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9172-86C7-486C-9A5B-2D6743E2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F677-9192-43B4-A7F3-96C7B4FB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18F5-0C11-4431-9619-F8C18DAD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B263-364A-458A-B442-357DC1B5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3544-6C09-4A54-9DBF-B2D72C28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9E6-522D-43ED-B39B-B1ADAE7A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4F5-E5C7-429F-8F42-A0B7991C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F6C-0C88-4780-8EB6-C47C54D7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751-0655-4F0A-9489-D7F8CFE6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79C-0209-4FF7-98FB-3A8EDFF3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A57-13EF-4836-B81D-71125D39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B31-5E5B-40DF-A1D9-0E986F38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D059-3D1C-4DF2-B7E3-E82A0C01F6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A851-8C06-4292-8F7A-5218EB73D4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nit 9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m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¾ x 2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/3 x 3 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¼ x 2 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Steps: Keep Change F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Keep the first fraction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e division sign to a multiplicatio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p the second fr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simpl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if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et’s try some together: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76520" y="1600200"/>
          <a:ext cx="160020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00200"/>
                    <a:ext cx="16002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676520" y="3886200"/>
          <a:ext cx="1447560" cy="12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886200"/>
                    <a:ext cx="14475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actice on your own: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90720" y="1752480"/>
          <a:ext cx="120636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12063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019920" y="1828800"/>
          <a:ext cx="120636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1828800"/>
                    <a:ext cx="1206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733920" y="4114800"/>
          <a:ext cx="115560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114800"/>
                    <a:ext cx="11556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400" spc="-1" strike="noStrike">
                <a:solidFill>
                  <a:srgbClr val="006699"/>
                </a:solidFill>
                <a:latin typeface="Times New Roman"/>
              </a:rPr>
              <a:t>Mixed Number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o improper fractions first, then follow previous st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3352680"/>
          <a:ext cx="139068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52680"/>
                    <a:ext cx="13906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581280" y="3255840"/>
          <a:ext cx="16002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255840"/>
                    <a:ext cx="1600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7010280" y="3200400"/>
          <a:ext cx="106704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3200400"/>
                    <a:ext cx="106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cc6600"/>
                </a:solidFill>
                <a:latin typeface="Times New Roman"/>
              </a:rPr>
              <a:t>Exit Ticke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43000" y="1371600"/>
          <a:ext cx="111744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11174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219320" y="3116160"/>
          <a:ext cx="1523880" cy="96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116160"/>
                    <a:ext cx="15238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295280" y="4876920"/>
          <a:ext cx="1346400" cy="13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876920"/>
                    <a:ext cx="13464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mework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book P. 93 12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0:59:01Z</dcterms:created>
  <dc:creator>ccps</dc:creator>
  <dc:description/>
  <dc:language>en-US</dc:language>
  <cp:lastModifiedBy>ccps</cp:lastModifiedBy>
  <dcterms:modified xsi:type="dcterms:W3CDTF">2010-03-29T12:33:00Z</dcterms:modified>
  <cp:revision>8</cp:revision>
  <dc:subject/>
  <dc:title>Obj 5.4:  To divide fractions &amp; mixed numbers.</dc:title>
</cp:coreProperties>
</file>